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FCB45-C94E-4611-9DA8-CA2B59B343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92ED1-1FA2-4187-8F90-74137302D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resumen de las pruebas del caso práctico presentará en forma abreviada las pruebas que se presentarán a los deleg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8F0D02-4BA6-44FD-93A0-37E73B696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orreos electrónicos intercambiados entre el personal del FBA y UBP a cargo de diferentes acuerdos comerciales y de negocios para la impresión de bonos de aniversa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contrato entre el FBA y UBP sigue al intercambio de correos electrónicos y lo sitúa en el esquema del marco comercial del acuerdo. También establece pasos cruciales para el desarrollo de casos adicion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8CDFC-3E5B-422E-BD05-9FD7031AE7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 extractos bancarios permiten seguir de cerca el desarrollo del caso. Los delegados podrán implementar el principio de "seguir el dinero" mediante el análisis de los extractos bancarios del FBA y 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actura proforma es la original emitida por UBP al FBA por los 100.000 € de anticip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2259F-550A-496F-A87E-E182D407F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segund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F934A-90D7-4C2B-A25B-528F2158F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1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orreo electrónico y los siguientes son herramientas de comisión. El contenido de los correos electrónicos está redactado por el autor del delito e incluye los elementos necesarios para el análi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actura falsa está redactada por el autor del delito y dirige la transferencia del dinero a la cuenta bancaria real existente, pero abierta con un propósito fraudulen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114C6-649D-41C0-B19B-46E96F69D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laraciones de responsables del Federal Bank of Atlantis que estuvieron implicados en las diferentes etapas del caso. Las declaraciones más importantes son las del Departamento Financiero y de TI, que da pistas o explicaciones sobre la forma en que se produjo la comisión re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3F297-551F-4079-9E62-E5B2F4F5B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tercer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F1EBC-1AFD-487E-A9E4-381EF7F8D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30BF2-8D4F-48BB-92F8-F0AE94D26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8E7C3-D187-4188-AB53-D90EB0721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primera parte de la presentación consistirá en una introducción a la pruebas iniciales provistas en el material del contexto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segunda parte presentará el diseño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tercera parte será la comisión del acto crimin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cuarta parte sentará las bases para el inicio de la investigación y el trabajo del personal en forma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quinta parte es un resumen de las presentada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2B073-50B6-4B35-9329-F77BDE43F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9DF52-5B06-4E88-9980-1F7B56F30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cuart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CDE0B-68B9-4C89-B325-F0F8972E0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4444A-1D7B-4737-ABED-44537845A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C2656-28FB-44B2-9FF9-B2E42C77F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07413-133C-4122-8251-627DE4207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contexto comienza con el establecimiento del Federal Bank of Atlantis (FBA) como un banco internacional conocido, consolidado y acreditado. Una descripción como esta debería llevar a los participantes a concluir que este tipo de banco no debería estar implicado en ningún tipo de problema, y ​​mucho menos en uno similar, que se describirá más adelante en este documento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E0516-84F4-4A54-BA2F-5EA88BE7E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il de empresa de las compañías implicadas en el contexto del caso. El material incluye 3 archivos distintos de MS Word en formato 97-2003. Estos deben estar a disposición de los delegados en copia impresa o, si las circunstancias lo permiten y todos los delegados tienen acceso único a los ordenadores, de forma electrón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EEAA7-62C8-4A19-BE27-BFBBA1731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intos documentos complementarios para el contexto del caso. El material incluye 3 archivos distintos de MS Word en formato 97-2003 y Adobe Reader. Estos deben estar a disposición de los delegados en copia impresa o, si las circunstancias lo permiten y todos los delegados tienen acceso único a los ordenadores, de forma electrón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378AF-A654-40AC-9DCD-651BA20E8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primer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AF700-42BC-4214-87E2-7F2AF1C76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A084-C7C8-4CD5-BEE7-5708E614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E53F-FA13-4679-9B3F-0357C7D4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6CD0-410E-4ABC-BCBF-618E1B6B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B2CD-F571-4452-A0F2-3D132A8F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671A-17B7-461C-88F2-312D1C84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E10-B1DD-43DE-87B2-E2FAFAAD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3BA-65B1-4659-87D2-6A19F0E0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50E-1D3A-4BC9-ABCA-FB660F77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48A-EB4C-4115-B555-B9B6FE95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64D-D8B5-406F-A29F-BBFC3D07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AB3B-4CE8-417C-BDD9-4A68F3B9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EAB4-9E29-46D1-8560-74A9A13F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D1235-4B2B-4045-94C8-9EBF1F8BDF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CAE1E-6455-42DA-BB7F-092C241B2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rso avanzado de formación en ciberdelincuencia para jueces y fi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ón 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sumen de la pruebas del caso prác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47760" y="86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rreos electrónic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cambio de correos electrónicos entre el FBA y UB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facilitan correos electrónicos tras el desarrollo del intercambio entre la parte contratante y los responsables en el FBA y UBP para la emisión del bono aniversa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cumentos e inform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facilita el contrato entre el FBA y UBP no solo para tener una perspectiva y realizar un análisis más minuciosos, sino también como prueba complementaria para el archivo del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347760" y="90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59C7E60-B6BC-4212-A861-5EF2FE1B7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34800" y="7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Extractos bancarios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acto bancario del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recogen numerosas transacciones, incluido el pago por adelantado de 100.000 € que se detalla en esta Declaració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acto bancario de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ocklands Securities Bank of Norland es la entidad que realiza las transacciones bancarias de United Bank Print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ctura proforma de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UBP ha emitido la factura proforma al FBA por un monto de 100.000 €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-60948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3C9A661-39B6-49CE-BAD2-4BAB1AD7A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E893402-284D-45C3-BB9F-AC676DCFA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rcera part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misión: pruebas y declaraciones de testig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5B86D2C-B2C3-4068-9C83-CD977DC9D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i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eta "Correos electrónic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l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rreo electrónico e intercambio subsiguiente como momento clave de la comisión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eta "Extractos bancari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a factura falsa de UBP incluye información de cuenta fraudulenta y una solicitud de pago por valor de 200.000 € tras finalizar la impresión de 20.000 bono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F96D778-F6C8-4B30-BE8C-61BF96431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i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peta "Declaraciones de testigos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de Logística y Operaciones del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Financiero del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de Tecnologías de la Información del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AE357AE-1AEB-47C7-8AD1-0B8A3350D2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9960489-8943-491F-8325-94B0D5F61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arta par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8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41BD392-A282-4528-91E2-1580E4827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naza persistente avanz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conjunto de procesos de piratería informática sigilosa y continua, a menudo orquestados por una persona o personas y dirigidos a una entidad específic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A36697C-507C-42E3-973B-803D2A69E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ptomone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activo digital diseñado para funcionar como medio de intercambio utilizando la criptografía para asegurar transacciones y controlar la creación de unidades adicionales de la moned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C34D1B8-6B82-426A-9ABA-A5D61287C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803160"/>
            <a:ext cx="868680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imera parte.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ción y pruebas inici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gunda parte.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rcera parte.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isión y declaraciones de testi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uarta parte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inta parte.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FF73D60-E167-4CA1-86B8-FE0650BBE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ber-​​ingeniería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tipo de truco de confianza con el propósito de recopilar información, cometer un fraude o acceder a un sistema"; difiere de un "engaño" tradicional en que a menudo es uno de los muchos pasos dentro de un esquema de fraude más complej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F0CB4C9-6B09-4557-89B6-991D27487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2790720" y="3814920"/>
            <a:ext cx="36100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98E952F-E21B-47AE-894E-EC2BC4422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 término de esta sesión, los delegados sabrá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Comprender la introducción y las pruebas iniciales del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Comprender el desarrollo del caso mediante el análisis de pruebas electrónicas y reales presentad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guir la comisión real y encontrar hechos adicionales en declaraciones de testig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Encontrar información adicional acerca de términos y definiciones clave de las herramientas del mundo cibernético y de la ciberdelincuencia, y aplicarlas en este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3DE5FCE-DD13-4E91-9D8F-E85464FE1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41AB470-B044-44E8-8E50-60C917DC4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865080"/>
            <a:ext cx="8512200" cy="54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 término de esta sesión, los delegados sabrá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Comprender la introducción y las pruebas iniciales del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Comprender el desarrollo del caso mediante el análisis de pruebas electrónicas y reales presentad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Seguir la comisión real y encontrar hechos adicionales en declaraciones de testig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contrar información adicional acerca de términos y definiciones clave de las herramientas del mundo cibernético y de la ciberdelincuencia, y aplicarlas en este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9600"/>
            <a:ext cx="8229600" cy="7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02FC131-8314-4B2E-9F87-2D530A931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mera parte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ción y 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7CE96A6-0B5D-4FFE-9286-49FFF0C68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Introducción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nopsis del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contexto de caso práctico pertenece a los esquemas conocidos recientemente como de "Compromiso comercial por correo electrónico" o "BEC", que derivan de fraudes detectados anteriormente como "Fraude del CEO" o de "Intermediarios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alcance y el tamaño de estos fraudes es asombroso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6B5CB8B-C898-4644-912E-2B60469E1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"Perfiles de empresa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l 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 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l Do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83AE65B-3501-440C-BA8D-9975FFE97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Documentos e informes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uncio del FBA de su bono aniver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isión del Consejo de Administración sobre la emisión de bonos y elementos financieros del mism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no del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royecto inicial del bono que incluye elementos impres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ato entre el FBA y UB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Contrato suscrito para el servicio de impresión de 20.000 elementos del bono aniversario del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61188F7-F230-4200-8B95-523C7D927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C6D3AF0-9B71-426A-A7F7-0A385686E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gunda part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74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91A0B98-2FA1-404A-A7FD-AFF08A8CF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Ademas lo más</cp:lastModifiedBy>
  <dcterms:modified xsi:type="dcterms:W3CDTF">2019-04-03T00:15:49Z</dcterms:modified>
  <cp:revision>183</cp:revision>
  <dc:subject/>
  <dc:title>Introductory Cybercrime Training for Judges and Prosecutors</dc:title>
</cp:coreProperties>
</file>